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ED1-C0BD-466F-B5D5-BE878854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5AF-10C7-40F5-BC21-151BCA1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FD1-D74A-4530-8BB4-05FE9C9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179-AE4D-4C58-BE95-B45355C3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A5E-1656-4A17-881B-D9317C4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D38-D223-4D21-A2B2-D271C1AE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DC2-30C0-4243-98CE-EE37B7A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24C-1C61-41B4-A583-88563851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D03-9845-4B34-A978-2507A41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EB5-7AED-48CA-8A39-6D2025FB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A5D-4CB3-49D3-8D2D-2E759B7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334-5241-4CC0-B55D-206B8F1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5F9C-31D1-4CFD-9117-11FD2E0BE61F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ilknur\Desktop\HAYRABOLU1.jpg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4" name="6 Metin kutusu"/>
          <p:cNvSpPr/>
          <p:nvPr/>
        </p:nvSpPr>
        <p:spPr>
          <a:xfrm>
            <a:off x="1092600" y="5877000"/>
            <a:ext cx="201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Monotype Corsiva"/>
              </a:rPr>
              <a:t>ISBN: 978605426506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1:54:30Z</dcterms:created>
  <dc:creator>ilknur</dc:creator>
  <dc:description/>
  <dc:language>en-US</dc:language>
  <cp:lastModifiedBy>ilknur</cp:lastModifiedBy>
  <dcterms:modified xsi:type="dcterms:W3CDTF">2010-12-16T11:56:59Z</dcterms:modified>
  <cp:revision>1</cp:revision>
  <dc:subject/>
  <dc:title>Slayt 1</dc:title>
</cp:coreProperties>
</file>